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571-CA3C-4102-9926-7D2E8B72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457-FCE5-4350-95DF-1B70BB18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3FC-E49A-47F7-9BC9-D6876DD2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38C-28CD-499A-8EB3-1BC27825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78C-ABC2-4FA3-BE7B-41648D5E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127-011D-464A-A8DD-18D4F34D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700-8F4A-4475-BD0E-5EC8D509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2E0-A568-47DC-9D92-A1AFF235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5B3-8811-434B-951B-065CDB2B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277-75F0-4AB6-AEA0-A3D3978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270-AF7D-4B99-B60D-8A78B815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779-40A7-4334-A4B4-1BB339A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9C00-7AB8-4D19-8826-B1D104578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8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68080" y="301896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СИСТЕМАТСКИХ ПРЕГЛЕ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ис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ндомизир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иничк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удиј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има одељак “МЕТОД у коме се описуј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су пронађене све релевантне студиј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је оцењена валидност сваке од укључених студиј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конзистентни од студије до студиј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ако се утврђује конзистентнос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моћу “шума график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l-Haenzel-Pet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–вим тестом, који даје већу тежину студијама са мањом варијабилношћу резулт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зултат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ог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чајн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тањ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говар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зом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НТ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Needed to Trea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идет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зентацију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валуациј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линичких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се резултати систематског прегледа могу применити на нашем пацијен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 зависи 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епена сличности нашег пацијента са пацијентима из систематског прегл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итеријума за укључивање и искључивање у клиничким студијам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угим контролисаним условима клиничких студиј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4:13:00Z</dcterms:modified>
  <cp:revision>58</cp:revision>
  <dc:subject/>
  <dc:title>Slide 1</dc:title>
</cp:coreProperties>
</file>